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FED5-5687-409D-9633-4DA21EEA6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EB98-E288-4885-AD99-85F885263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5BA0-7EC9-4F67-96B1-FB515BFB2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83A6-9A15-491D-8481-4240C5BB9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CD63-908A-4624-A748-8B2422AF4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2902-0498-4E41-B5E3-C3329C11F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0271-98D0-4CC5-920E-A903CDF9B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841C-6BF5-4CA1-B4C7-2B25AA55F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8112-246F-4E7D-BD3F-6919CD431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EAE9-C475-48EF-A253-43001807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F9A4-1C12-4281-A274-B17F2E5C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26C1-9CE1-4E7E-9744-C249FF0A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72C54-F0B5-4497-8C81-070C511C3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Publicité pour la Saab 9-3 (DR)."/>
          <p:cNvPicPr/>
          <p:nvPr/>
        </p:nvPicPr>
        <p:blipFill>
          <a:blip r:embed="rId1"/>
          <a:stretch/>
        </p:blipFill>
        <p:spPr>
          <a:xfrm>
            <a:off x="1066680" y="1066680"/>
            <a:ext cx="7315200" cy="3625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200" y="6615000"/>
            <a:ext cx="429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http://www.rue89.com/2008/05/07/publicite-automobile-quand-les-marques-abusent-du-ve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00200" y="0"/>
            <a:ext cx="5745240" cy="6629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480" y="6615000"/>
            <a:ext cx="33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http://www.mon-environnement.com/affiche/1-1000/901-1000/961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996920" y="0"/>
            <a:ext cx="4978440" cy="6629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880" y="6615000"/>
            <a:ext cx="332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http://www.mariaportugal.net/media/logo~affiche~HLE_poster_sm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84560" y="0"/>
            <a:ext cx="4422600" cy="66294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080" y="6615000"/>
            <a:ext cx="404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http://www.sustenergy.org/UserFiles/File/SEE_ED_F_MAVD_070917_Affiche_BA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023920" y="0"/>
            <a:ext cx="4926240" cy="66294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120" y="6615000"/>
            <a:ext cx="3252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http://www.mon-environnement.com/affiche/1-1000/701-800/751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076480" y="0"/>
            <a:ext cx="4768920" cy="6553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080" y="6615000"/>
            <a:ext cx="2629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http://blogs.ionis-group.com/ipsa/affiche-salon-vert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66395"/>
          <a:stretch/>
        </p:blipFill>
        <p:spPr>
          <a:xfrm>
            <a:off x="228600" y="0"/>
            <a:ext cx="8610480" cy="6616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200" y="6615000"/>
            <a:ext cx="335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http://bhrumeur.blog.lemonde.fr/files/2008/04/affiches.1208449461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32877" r="0" b="35800"/>
          <a:stretch/>
        </p:blipFill>
        <p:spPr>
          <a:xfrm>
            <a:off x="0" y="-44280"/>
            <a:ext cx="9144000" cy="6546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200" y="6615000"/>
            <a:ext cx="335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http://bhrumeur.blog.lemonde.fr/files/2008/04/affiches.1208449461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64297" r="0" b="0"/>
          <a:stretch/>
        </p:blipFill>
        <p:spPr>
          <a:xfrm>
            <a:off x="533520" y="0"/>
            <a:ext cx="8076960" cy="65930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00" y="6615000"/>
            <a:ext cx="335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http://bhrumeur.blog.lemonde.fr/files/2008/04/affiches.1208449461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4628880" cy="6553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160" y="6615000"/>
            <a:ext cx="3144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http://www.plongeeonline.com/vitrineclub/affiche-dechets-petit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654200" y="0"/>
            <a:ext cx="5640480" cy="6629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8280" y="6615000"/>
            <a:ext cx="3591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http://www.mon-environnement.com/affiche/1001-2000/1101-1200/1107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473120" y="0"/>
            <a:ext cx="5991480" cy="6629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8280" y="6615000"/>
            <a:ext cx="3591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http://www.mon-environnement.com/affiche/1001-2000/1001-1100/1074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5167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520" y="6615000"/>
            <a:ext cx="2925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ecoconception.files.wordpress.com/2008/06/lafuma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15:49:05Z</dcterms:created>
  <dc:creator>Information Technology</dc:creator>
  <dc:description/>
  <dc:language>en-US</dc:language>
  <cp:lastModifiedBy>Information Technology</cp:lastModifiedBy>
  <dcterms:modified xsi:type="dcterms:W3CDTF">2009-01-08T15:58:08Z</dcterms:modified>
  <cp:revision>2</cp:revision>
  <dc:subject/>
  <dc:title>Slide 1</dc:title>
</cp:coreProperties>
</file>